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2064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28520" y="685440"/>
            <a:ext cx="4800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r>
              <a:rPr b="0" lang="en-US" sz="2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914-5097-4A33-BBE8-3D5BDDE0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C23E-D212-431C-BF3D-22F931BE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28880" y="685800"/>
            <a:ext cx="48006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460854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60320" y="19638720"/>
            <a:ext cx="460854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17488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60320" y="1963872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6174880" y="1963872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141840" y="855864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723360" y="855864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60320" y="1963872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141840" y="1963872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3723360" y="19638720"/>
            <a:ext cx="148392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60320" y="8558640"/>
            <a:ext cx="4608540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99"/>
              </a:spcBef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4608540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224895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174880" y="8558640"/>
            <a:ext cx="224895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60320" y="1459080"/>
            <a:ext cx="46085400" cy="283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99"/>
              </a:spcBef>
              <a:tabLst>
                <a:tab algn="l" pos="0"/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174880" y="8558640"/>
            <a:ext cx="224895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60320" y="1963872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224895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17488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174880" y="1963872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60320" y="1459080"/>
            <a:ext cx="4608540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16600"/>
                <a:tab algn="l" pos="10032840"/>
              </a:tabLst>
            </a:pPr>
            <a:endParaRPr b="0" lang="en-US" sz="2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6032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174880" y="8558640"/>
            <a:ext cx="224895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60320" y="19638720"/>
            <a:ext cx="4608540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99"/>
              </a:spcBef>
              <a:buNone/>
              <a:tabLst>
                <a:tab algn="l" pos="5016600"/>
                <a:tab algn="l" pos="1003284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51190560" cy="457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457200" cy="3656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50749200" y="0"/>
            <a:ext cx="457200" cy="3656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34747200"/>
            <a:ext cx="5119056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vcu_6"/>
          <p:cNvPicPr/>
          <p:nvPr/>
        </p:nvPicPr>
        <p:blipFill>
          <a:blip r:embed="rId2"/>
          <a:stretch/>
        </p:blipFill>
        <p:spPr>
          <a:xfrm>
            <a:off x="533520" y="1143000"/>
            <a:ext cx="5484600" cy="1979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va_56"/>
          <p:cNvPicPr/>
          <p:nvPr/>
        </p:nvPicPr>
        <p:blipFill>
          <a:blip r:embed="rId3"/>
          <a:stretch/>
        </p:blipFill>
        <p:spPr>
          <a:xfrm>
            <a:off x="15840" y="35247240"/>
            <a:ext cx="51190560" cy="10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7187400" y="2438280"/>
            <a:ext cx="304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Informationist Team Support for an Interdisciplinary Research Group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205400" y="822240"/>
            <a:ext cx="24281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ffffff"/>
                </a:solidFill>
                <a:latin typeface="Arial"/>
              </a:rPr>
              <a:t>Collaborating to Improve Collaboration: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62240" y="5254560"/>
            <a:ext cx="48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garet Henderson, Research Data Management, VCU Libraries; Julie Arendt and Martha Roseberry, Academic Outreach, James Branch Cabell Library; John Cyrus and Karen Gau, Research and Education, Tompkins-McCaw Library for the Health Sci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6"/>
          <p:cNvGrpSpPr/>
          <p:nvPr/>
        </p:nvGrpSpPr>
        <p:grpSpPr>
          <a:xfrm>
            <a:off x="3774960" y="16583040"/>
            <a:ext cx="25376400" cy="18090000"/>
            <a:chOff x="3774960" y="16583040"/>
            <a:chExt cx="25376400" cy="18090000"/>
          </a:xfrm>
        </p:grpSpPr>
        <p:sp>
          <p:nvSpPr>
            <p:cNvPr id="53" name="Freeform 57"/>
            <p:cNvSpPr/>
            <p:nvPr/>
          </p:nvSpPr>
          <p:spPr>
            <a:xfrm rot="2292600">
              <a:off x="15325200" y="20517840"/>
              <a:ext cx="7714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0" y="229630"/>
                  </a:moveTo>
                  <a:lnTo>
                    <a:pt x="453781" y="229630"/>
                  </a:lnTo>
                  <a:lnTo>
                    <a:pt x="453781" y="0"/>
                  </a:lnTo>
                  <a:lnTo>
                    <a:pt x="907562" y="574076"/>
                  </a:lnTo>
                  <a:lnTo>
                    <a:pt x="453781" y="1148152"/>
                  </a:lnTo>
                  <a:lnTo>
                    <a:pt x="453781" y="918522"/>
                  </a:lnTo>
                  <a:lnTo>
                    <a:pt x="0" y="918522"/>
                  </a:lnTo>
                  <a:lnTo>
                    <a:pt x="0" y="229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7216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8"/>
            <p:cNvSpPr/>
            <p:nvPr/>
          </p:nvSpPr>
          <p:spPr>
            <a:xfrm rot="5377800">
              <a:off x="17104680" y="24915600"/>
              <a:ext cx="7714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0" y="229630"/>
                  </a:moveTo>
                  <a:lnTo>
                    <a:pt x="453781" y="229630"/>
                  </a:lnTo>
                  <a:lnTo>
                    <a:pt x="453781" y="0"/>
                  </a:lnTo>
                  <a:lnTo>
                    <a:pt x="907562" y="574076"/>
                  </a:lnTo>
                  <a:lnTo>
                    <a:pt x="453781" y="1148152"/>
                  </a:lnTo>
                  <a:lnTo>
                    <a:pt x="453781" y="918522"/>
                  </a:lnTo>
                  <a:lnTo>
                    <a:pt x="0" y="918522"/>
                  </a:lnTo>
                  <a:lnTo>
                    <a:pt x="0" y="229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7216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9"/>
            <p:cNvSpPr/>
            <p:nvPr/>
          </p:nvSpPr>
          <p:spPr>
            <a:xfrm rot="19263600">
              <a:off x="15712920" y="29566800"/>
              <a:ext cx="7714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907562" y="918522"/>
                  </a:moveTo>
                  <a:lnTo>
                    <a:pt x="453781" y="918522"/>
                  </a:lnTo>
                  <a:lnTo>
                    <a:pt x="453781" y="1148152"/>
                  </a:lnTo>
                  <a:lnTo>
                    <a:pt x="0" y="574076"/>
                  </a:lnTo>
                  <a:lnTo>
                    <a:pt x="453781" y="0"/>
                  </a:lnTo>
                  <a:lnTo>
                    <a:pt x="453781" y="229630"/>
                  </a:lnTo>
                  <a:lnTo>
                    <a:pt x="907562" y="229630"/>
                  </a:lnTo>
                  <a:lnTo>
                    <a:pt x="907562" y="918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0"/>
            <p:cNvSpPr/>
            <p:nvPr/>
          </p:nvSpPr>
          <p:spPr>
            <a:xfrm rot="749400">
              <a:off x="10455120" y="30335040"/>
              <a:ext cx="771480" cy="9763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907562" y="918522"/>
                  </a:moveTo>
                  <a:lnTo>
                    <a:pt x="453781" y="918522"/>
                  </a:lnTo>
                  <a:lnTo>
                    <a:pt x="453781" y="1148152"/>
                  </a:lnTo>
                  <a:lnTo>
                    <a:pt x="0" y="574076"/>
                  </a:lnTo>
                  <a:lnTo>
                    <a:pt x="453781" y="0"/>
                  </a:lnTo>
                  <a:lnTo>
                    <a:pt x="453781" y="229630"/>
                  </a:lnTo>
                  <a:lnTo>
                    <a:pt x="907562" y="229630"/>
                  </a:lnTo>
                  <a:lnTo>
                    <a:pt x="907562" y="918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1"/>
            <p:cNvSpPr/>
            <p:nvPr/>
          </p:nvSpPr>
          <p:spPr>
            <a:xfrm rot="3835200">
              <a:off x="6814080" y="27060120"/>
              <a:ext cx="7714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907562" y="918522"/>
                  </a:moveTo>
                  <a:lnTo>
                    <a:pt x="453781" y="918522"/>
                  </a:lnTo>
                  <a:lnTo>
                    <a:pt x="453781" y="1148152"/>
                  </a:lnTo>
                  <a:lnTo>
                    <a:pt x="0" y="574076"/>
                  </a:lnTo>
                  <a:lnTo>
                    <a:pt x="453781" y="0"/>
                  </a:lnTo>
                  <a:lnTo>
                    <a:pt x="453781" y="229630"/>
                  </a:lnTo>
                  <a:lnTo>
                    <a:pt x="907562" y="229630"/>
                  </a:lnTo>
                  <a:lnTo>
                    <a:pt x="907562" y="918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2"/>
            <p:cNvSpPr/>
            <p:nvPr/>
          </p:nvSpPr>
          <p:spPr>
            <a:xfrm rot="17721000">
              <a:off x="6332760" y="22090680"/>
              <a:ext cx="7696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0" y="229630"/>
                  </a:moveTo>
                  <a:lnTo>
                    <a:pt x="453781" y="229630"/>
                  </a:lnTo>
                  <a:lnTo>
                    <a:pt x="453781" y="0"/>
                  </a:lnTo>
                  <a:lnTo>
                    <a:pt x="907562" y="574076"/>
                  </a:lnTo>
                  <a:lnTo>
                    <a:pt x="453781" y="1148152"/>
                  </a:lnTo>
                  <a:lnTo>
                    <a:pt x="453781" y="918522"/>
                  </a:lnTo>
                  <a:lnTo>
                    <a:pt x="0" y="918522"/>
                  </a:lnTo>
                  <a:lnTo>
                    <a:pt x="0" y="229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7216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3"/>
            <p:cNvSpPr/>
            <p:nvPr/>
          </p:nvSpPr>
          <p:spPr>
            <a:xfrm rot="20806800">
              <a:off x="10434600" y="19311480"/>
              <a:ext cx="769680" cy="974520"/>
            </a:xfrm>
            <a:custGeom>
              <a:avLst/>
              <a:gdLst/>
              <a:ahLst/>
              <a:rect l="l" t="t" r="r" b="b"/>
              <a:pathLst>
                <a:path w="907562" h="1148152">
                  <a:moveTo>
                    <a:pt x="0" y="229630"/>
                  </a:moveTo>
                  <a:lnTo>
                    <a:pt x="453781" y="229630"/>
                  </a:lnTo>
                  <a:lnTo>
                    <a:pt x="453781" y="0"/>
                  </a:lnTo>
                  <a:lnTo>
                    <a:pt x="907562" y="574076"/>
                  </a:lnTo>
                  <a:lnTo>
                    <a:pt x="453781" y="1148152"/>
                  </a:lnTo>
                  <a:lnTo>
                    <a:pt x="453781" y="918522"/>
                  </a:lnTo>
                  <a:lnTo>
                    <a:pt x="0" y="918522"/>
                  </a:lnTo>
                  <a:lnTo>
                    <a:pt x="0" y="229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72160" tIns="229320" bIns="2293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Hexagon 64"/>
            <p:cNvSpPr/>
            <p:nvPr/>
          </p:nvSpPr>
          <p:spPr>
            <a:xfrm>
              <a:off x="15173280" y="18670320"/>
              <a:ext cx="1271520" cy="1056960"/>
            </a:xfrm>
            <a:prstGeom prst="hexagon">
              <a:avLst>
                <a:gd name="adj" fmla="val 25006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Hexagon 65"/>
            <p:cNvSpPr/>
            <p:nvPr/>
          </p:nvSpPr>
          <p:spPr>
            <a:xfrm>
              <a:off x="16629120" y="32535720"/>
              <a:ext cx="1271520" cy="1056960"/>
            </a:xfrm>
            <a:prstGeom prst="hexagon">
              <a:avLst>
                <a:gd name="adj" fmla="val 25006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Hexagon 66"/>
            <p:cNvSpPr/>
            <p:nvPr/>
          </p:nvSpPr>
          <p:spPr>
            <a:xfrm>
              <a:off x="8238960" y="31464360"/>
              <a:ext cx="1198440" cy="10713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Hexagon 67"/>
            <p:cNvSpPr/>
            <p:nvPr/>
          </p:nvSpPr>
          <p:spPr>
            <a:xfrm>
              <a:off x="5418000" y="29403720"/>
              <a:ext cx="1255680" cy="1044360"/>
            </a:xfrm>
            <a:prstGeom prst="hexagon">
              <a:avLst>
                <a:gd name="adj" fmla="val 25004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Hexagon 68"/>
            <p:cNvSpPr/>
            <p:nvPr/>
          </p:nvSpPr>
          <p:spPr>
            <a:xfrm>
              <a:off x="11728440" y="16583040"/>
              <a:ext cx="1269720" cy="1058760"/>
            </a:xfrm>
            <a:prstGeom prst="hexagon">
              <a:avLst>
                <a:gd name="adj" fmla="val 24995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Hexagon 69"/>
            <p:cNvSpPr/>
            <p:nvPr/>
          </p:nvSpPr>
          <p:spPr>
            <a:xfrm>
              <a:off x="4782960" y="2248992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Hexagon 70"/>
            <p:cNvSpPr/>
            <p:nvPr/>
          </p:nvSpPr>
          <p:spPr>
            <a:xfrm>
              <a:off x="3774960" y="2592864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Hexagon 71"/>
            <p:cNvSpPr/>
            <p:nvPr/>
          </p:nvSpPr>
          <p:spPr>
            <a:xfrm>
              <a:off x="4662360" y="2706372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Hexagon 72"/>
            <p:cNvSpPr/>
            <p:nvPr/>
          </p:nvSpPr>
          <p:spPr>
            <a:xfrm>
              <a:off x="18138960" y="24704640"/>
              <a:ext cx="1269720" cy="1058760"/>
            </a:xfrm>
            <a:prstGeom prst="hexagon">
              <a:avLst>
                <a:gd name="adj" fmla="val 24995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Hexagon 73"/>
            <p:cNvSpPr/>
            <p:nvPr/>
          </p:nvSpPr>
          <p:spPr>
            <a:xfrm>
              <a:off x="9070920" y="1785276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Hexagon 74"/>
            <p:cNvSpPr/>
            <p:nvPr/>
          </p:nvSpPr>
          <p:spPr>
            <a:xfrm>
              <a:off x="27879840" y="3077856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Hexagon 75"/>
            <p:cNvSpPr/>
            <p:nvPr/>
          </p:nvSpPr>
          <p:spPr>
            <a:xfrm>
              <a:off x="24141240" y="23177520"/>
              <a:ext cx="1269720" cy="1058760"/>
            </a:xfrm>
            <a:prstGeom prst="hexagon">
              <a:avLst>
                <a:gd name="adj" fmla="val 24995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Hexagon 76"/>
            <p:cNvSpPr/>
            <p:nvPr/>
          </p:nvSpPr>
          <p:spPr>
            <a:xfrm>
              <a:off x="20031120" y="22493160"/>
              <a:ext cx="1271520" cy="105876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7"/>
            <p:cNvSpPr/>
            <p:nvPr/>
          </p:nvSpPr>
          <p:spPr>
            <a:xfrm rot="668400">
              <a:off x="22869360" y="25166520"/>
              <a:ext cx="669600" cy="8524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0" y="200517"/>
                  </a:moveTo>
                  <a:lnTo>
                    <a:pt x="394184" y="200517"/>
                  </a:lnTo>
                  <a:lnTo>
                    <a:pt x="394184" y="0"/>
                  </a:lnTo>
                  <a:lnTo>
                    <a:pt x="788368" y="501293"/>
                  </a:lnTo>
                  <a:lnTo>
                    <a:pt x="394184" y="1002586"/>
                  </a:lnTo>
                  <a:lnTo>
                    <a:pt x="394184" y="802069"/>
                  </a:lnTo>
                  <a:lnTo>
                    <a:pt x="0" y="802069"/>
                  </a:lnTo>
                  <a:lnTo>
                    <a:pt x="0" y="200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3616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8"/>
            <p:cNvSpPr/>
            <p:nvPr/>
          </p:nvSpPr>
          <p:spPr>
            <a:xfrm rot="4268400">
              <a:off x="26071200" y="27341640"/>
              <a:ext cx="669600" cy="8524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0" y="200517"/>
                  </a:moveTo>
                  <a:lnTo>
                    <a:pt x="394184" y="200517"/>
                  </a:lnTo>
                  <a:lnTo>
                    <a:pt x="394184" y="0"/>
                  </a:lnTo>
                  <a:lnTo>
                    <a:pt x="788368" y="501293"/>
                  </a:lnTo>
                  <a:lnTo>
                    <a:pt x="394184" y="1002586"/>
                  </a:lnTo>
                  <a:lnTo>
                    <a:pt x="394184" y="802069"/>
                  </a:lnTo>
                  <a:lnTo>
                    <a:pt x="0" y="802069"/>
                  </a:lnTo>
                  <a:lnTo>
                    <a:pt x="0" y="200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3616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9"/>
            <p:cNvSpPr/>
            <p:nvPr/>
          </p:nvSpPr>
          <p:spPr>
            <a:xfrm rot="18668400">
              <a:off x="25305480" y="31072320"/>
              <a:ext cx="669600" cy="8524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788368" y="802069"/>
                  </a:moveTo>
                  <a:lnTo>
                    <a:pt x="394184" y="802069"/>
                  </a:lnTo>
                  <a:lnTo>
                    <a:pt x="394184" y="1002586"/>
                  </a:lnTo>
                  <a:lnTo>
                    <a:pt x="0" y="501293"/>
                  </a:lnTo>
                  <a:lnTo>
                    <a:pt x="394184" y="0"/>
                  </a:lnTo>
                  <a:lnTo>
                    <a:pt x="394184" y="200517"/>
                  </a:lnTo>
                  <a:lnTo>
                    <a:pt x="788368" y="200517"/>
                  </a:lnTo>
                  <a:lnTo>
                    <a:pt x="788368" y="8020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 rot="668400">
              <a:off x="21220200" y="32137200"/>
              <a:ext cx="669600" cy="8506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788368" y="802069"/>
                  </a:moveTo>
                  <a:lnTo>
                    <a:pt x="394184" y="802069"/>
                  </a:lnTo>
                  <a:lnTo>
                    <a:pt x="394184" y="1002586"/>
                  </a:lnTo>
                  <a:lnTo>
                    <a:pt x="0" y="501293"/>
                  </a:lnTo>
                  <a:lnTo>
                    <a:pt x="394184" y="0"/>
                  </a:lnTo>
                  <a:lnTo>
                    <a:pt x="394184" y="200517"/>
                  </a:lnTo>
                  <a:lnTo>
                    <a:pt x="788368" y="200517"/>
                  </a:lnTo>
                  <a:lnTo>
                    <a:pt x="788368" y="8020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429496704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1"/>
            <p:cNvSpPr/>
            <p:nvPr/>
          </p:nvSpPr>
          <p:spPr>
            <a:xfrm rot="15068400">
              <a:off x="18030600" y="29493720"/>
              <a:ext cx="669600" cy="8506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0" y="200517"/>
                  </a:moveTo>
                  <a:lnTo>
                    <a:pt x="394184" y="200517"/>
                  </a:lnTo>
                  <a:lnTo>
                    <a:pt x="394184" y="0"/>
                  </a:lnTo>
                  <a:lnTo>
                    <a:pt x="788368" y="501293"/>
                  </a:lnTo>
                  <a:lnTo>
                    <a:pt x="394184" y="1002586"/>
                  </a:lnTo>
                  <a:lnTo>
                    <a:pt x="394184" y="802069"/>
                  </a:lnTo>
                  <a:lnTo>
                    <a:pt x="0" y="802069"/>
                  </a:lnTo>
                  <a:lnTo>
                    <a:pt x="0" y="200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3616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2"/>
            <p:cNvSpPr/>
            <p:nvPr/>
          </p:nvSpPr>
          <p:spPr>
            <a:xfrm rot="18668400">
              <a:off x="19179360" y="26120880"/>
              <a:ext cx="669600" cy="852480"/>
            </a:xfrm>
            <a:custGeom>
              <a:avLst/>
              <a:gdLst/>
              <a:ahLst/>
              <a:rect l="l" t="t" r="r" b="b"/>
              <a:pathLst>
                <a:path w="788368" h="1002586">
                  <a:moveTo>
                    <a:pt x="0" y="200517"/>
                  </a:moveTo>
                  <a:lnTo>
                    <a:pt x="394184" y="200517"/>
                  </a:lnTo>
                  <a:lnTo>
                    <a:pt x="394184" y="0"/>
                  </a:lnTo>
                  <a:lnTo>
                    <a:pt x="788368" y="501293"/>
                  </a:lnTo>
                  <a:lnTo>
                    <a:pt x="394184" y="1002586"/>
                  </a:lnTo>
                  <a:lnTo>
                    <a:pt x="394184" y="802069"/>
                  </a:lnTo>
                  <a:lnTo>
                    <a:pt x="0" y="802069"/>
                  </a:lnTo>
                  <a:lnTo>
                    <a:pt x="0" y="200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236160" tIns="200160" bIns="20016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3"/>
            <p:cNvSpPr/>
            <p:nvPr/>
          </p:nvSpPr>
          <p:spPr>
            <a:xfrm rot="749400">
              <a:off x="15789240" y="26107920"/>
              <a:ext cx="3403440" cy="340200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84"/>
            <p:cNvSpPr/>
            <p:nvPr/>
          </p:nvSpPr>
          <p:spPr>
            <a:xfrm>
              <a:off x="15914520" y="27071640"/>
              <a:ext cx="316548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Research Proces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5"/>
            <p:cNvSpPr/>
            <p:nvPr/>
          </p:nvSpPr>
          <p:spPr>
            <a:xfrm rot="749400">
              <a:off x="11885040" y="29211480"/>
              <a:ext cx="3403440" cy="340344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86"/>
            <p:cNvSpPr/>
            <p:nvPr/>
          </p:nvSpPr>
          <p:spPr>
            <a:xfrm>
              <a:off x="11979000" y="29967120"/>
              <a:ext cx="316548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Presentations or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Conference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7"/>
            <p:cNvSpPr/>
            <p:nvPr/>
          </p:nvSpPr>
          <p:spPr>
            <a:xfrm rot="749400">
              <a:off x="6905160" y="27698760"/>
              <a:ext cx="3403440" cy="340344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6120" rIns="546120" tIns="546120" bIns="54612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88"/>
            <p:cNvSpPr/>
            <p:nvPr/>
          </p:nvSpPr>
          <p:spPr>
            <a:xfrm>
              <a:off x="6845040" y="29016360"/>
              <a:ext cx="3552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Publicatio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9"/>
            <p:cNvSpPr/>
            <p:nvPr/>
          </p:nvSpPr>
          <p:spPr>
            <a:xfrm rot="749400">
              <a:off x="4876200" y="23605920"/>
              <a:ext cx="3402000" cy="340344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90"/>
            <p:cNvSpPr/>
            <p:nvPr/>
          </p:nvSpPr>
          <p:spPr>
            <a:xfrm>
              <a:off x="4962240" y="24868080"/>
              <a:ext cx="3165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Share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1"/>
            <p:cNvSpPr/>
            <p:nvPr/>
          </p:nvSpPr>
          <p:spPr>
            <a:xfrm rot="749400">
              <a:off x="6730920" y="19086480"/>
              <a:ext cx="3403440" cy="340200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92"/>
            <p:cNvSpPr/>
            <p:nvPr/>
          </p:nvSpPr>
          <p:spPr>
            <a:xfrm>
              <a:off x="6854760" y="20340360"/>
              <a:ext cx="3165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Idea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3"/>
            <p:cNvSpPr/>
            <p:nvPr/>
          </p:nvSpPr>
          <p:spPr>
            <a:xfrm rot="749400">
              <a:off x="11620440" y="17975160"/>
              <a:ext cx="3402000" cy="340200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94"/>
            <p:cNvSpPr/>
            <p:nvPr/>
          </p:nvSpPr>
          <p:spPr>
            <a:xfrm>
              <a:off x="11744280" y="19173600"/>
              <a:ext cx="3165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Proposal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5"/>
            <p:cNvSpPr/>
            <p:nvPr/>
          </p:nvSpPr>
          <p:spPr>
            <a:xfrm rot="749400">
              <a:off x="15511320" y="21337560"/>
              <a:ext cx="3403440" cy="3402000"/>
            </a:xfrm>
            <a:custGeom>
              <a:avLst/>
              <a:gdLst/>
              <a:ahLst/>
              <a:rect l="l" t="t" r="r" b="b"/>
              <a:pathLst>
                <a:path w="3401931" h="3401931">
                  <a:moveTo>
                    <a:pt x="0" y="1700966"/>
                  </a:moveTo>
                  <a:cubicBezTo>
                    <a:pt x="0" y="761548"/>
                    <a:pt x="761548" y="0"/>
                    <a:pt x="1700966" y="0"/>
                  </a:cubicBezTo>
                  <a:cubicBezTo>
                    <a:pt x="2640384" y="0"/>
                    <a:pt x="3401932" y="761548"/>
                    <a:pt x="3401932" y="1700966"/>
                  </a:cubicBezTo>
                  <a:cubicBezTo>
                    <a:pt x="3401932" y="2640384"/>
                    <a:pt x="2640384" y="3401932"/>
                    <a:pt x="1700966" y="3401932"/>
                  </a:cubicBezTo>
                  <a:cubicBezTo>
                    <a:pt x="761548" y="3401932"/>
                    <a:pt x="0" y="2640384"/>
                    <a:pt x="0" y="1700966"/>
                  </a:cubicBez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9000" rIns="549000" tIns="549000" bIns="54900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96"/>
            <p:cNvSpPr/>
            <p:nvPr/>
          </p:nvSpPr>
          <p:spPr>
            <a:xfrm>
              <a:off x="15678000" y="22229640"/>
              <a:ext cx="316548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ffffff"/>
                  </a:solidFill>
                  <a:latin typeface="Calibri"/>
                </a:rPr>
                <a:t>Mandatory Training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7"/>
            <p:cNvSpPr/>
            <p:nvPr/>
          </p:nvSpPr>
          <p:spPr>
            <a:xfrm rot="20468400">
              <a:off x="19648080" y="23780520"/>
              <a:ext cx="2971800" cy="2971800"/>
            </a:xfrm>
            <a:custGeom>
              <a:avLst/>
              <a:gdLst/>
              <a:ahLst/>
              <a:rect l="l" t="t" r="r" b="b"/>
              <a:pathLst>
                <a:path w="2970627" h="2970627">
                  <a:moveTo>
                    <a:pt x="0" y="1485314"/>
                  </a:moveTo>
                  <a:cubicBezTo>
                    <a:pt x="0" y="664998"/>
                    <a:pt x="664998" y="0"/>
                    <a:pt x="1485314" y="0"/>
                  </a:cubicBezTo>
                  <a:cubicBezTo>
                    <a:pt x="2305630" y="0"/>
                    <a:pt x="2970628" y="664998"/>
                    <a:pt x="2970628" y="1485314"/>
                  </a:cubicBezTo>
                  <a:cubicBezTo>
                    <a:pt x="2970628" y="2305630"/>
                    <a:pt x="2305630" y="2970628"/>
                    <a:pt x="1485314" y="2970628"/>
                  </a:cubicBezTo>
                  <a:cubicBezTo>
                    <a:pt x="664998" y="2970628"/>
                    <a:pt x="0" y="2305630"/>
                    <a:pt x="0" y="1485314"/>
                  </a:cubicBezTo>
                  <a:close/>
                </a:path>
              </a:pathLst>
            </a:custGeom>
            <a:solidFill>
              <a:srgbClr val="d0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6640" rIns="476640" tIns="476640" bIns="47664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98"/>
            <p:cNvSpPr/>
            <p:nvPr/>
          </p:nvSpPr>
          <p:spPr>
            <a:xfrm>
              <a:off x="19415160" y="24823800"/>
              <a:ext cx="34401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Calibri"/>
                </a:rPr>
                <a:t>Experiment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9"/>
            <p:cNvSpPr/>
            <p:nvPr/>
          </p:nvSpPr>
          <p:spPr>
            <a:xfrm rot="20468400">
              <a:off x="23748840" y="24549120"/>
              <a:ext cx="2971800" cy="2971800"/>
            </a:xfrm>
            <a:custGeom>
              <a:avLst/>
              <a:gdLst/>
              <a:ahLst/>
              <a:rect l="l" t="t" r="r" b="b"/>
              <a:pathLst>
                <a:path w="2970627" h="2970627">
                  <a:moveTo>
                    <a:pt x="0" y="1485314"/>
                  </a:moveTo>
                  <a:cubicBezTo>
                    <a:pt x="0" y="664998"/>
                    <a:pt x="664998" y="0"/>
                    <a:pt x="1485314" y="0"/>
                  </a:cubicBezTo>
                  <a:cubicBezTo>
                    <a:pt x="2305630" y="0"/>
                    <a:pt x="2970628" y="664998"/>
                    <a:pt x="2970628" y="1485314"/>
                  </a:cubicBezTo>
                  <a:cubicBezTo>
                    <a:pt x="2970628" y="2305630"/>
                    <a:pt x="2305630" y="2970628"/>
                    <a:pt x="1485314" y="2970628"/>
                  </a:cubicBezTo>
                  <a:cubicBezTo>
                    <a:pt x="664998" y="2970628"/>
                    <a:pt x="0" y="2305630"/>
                    <a:pt x="0" y="1485314"/>
                  </a:cubicBezTo>
                  <a:close/>
                </a:path>
              </a:pathLst>
            </a:custGeom>
            <a:solidFill>
              <a:srgbClr val="d0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6640" rIns="476640" tIns="476640" bIns="47664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00"/>
            <p:cNvSpPr/>
            <p:nvPr/>
          </p:nvSpPr>
          <p:spPr>
            <a:xfrm>
              <a:off x="23785560" y="25390440"/>
              <a:ext cx="296676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Calibri"/>
                </a:rPr>
                <a:t>Manage Data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1"/>
            <p:cNvSpPr/>
            <p:nvPr/>
          </p:nvSpPr>
          <p:spPr>
            <a:xfrm rot="20468400">
              <a:off x="25454160" y="28246320"/>
              <a:ext cx="2971800" cy="2973240"/>
            </a:xfrm>
            <a:custGeom>
              <a:avLst/>
              <a:gdLst/>
              <a:ahLst/>
              <a:rect l="l" t="t" r="r" b="b"/>
              <a:pathLst>
                <a:path w="2970627" h="2970627">
                  <a:moveTo>
                    <a:pt x="0" y="1485314"/>
                  </a:moveTo>
                  <a:cubicBezTo>
                    <a:pt x="0" y="664998"/>
                    <a:pt x="664998" y="0"/>
                    <a:pt x="1485314" y="0"/>
                  </a:cubicBezTo>
                  <a:cubicBezTo>
                    <a:pt x="2305630" y="0"/>
                    <a:pt x="2970628" y="664998"/>
                    <a:pt x="2970628" y="1485314"/>
                  </a:cubicBezTo>
                  <a:cubicBezTo>
                    <a:pt x="2970628" y="2305630"/>
                    <a:pt x="2305630" y="2970628"/>
                    <a:pt x="1485314" y="2970628"/>
                  </a:cubicBezTo>
                  <a:cubicBezTo>
                    <a:pt x="664998" y="2970628"/>
                    <a:pt x="0" y="2305630"/>
                    <a:pt x="0" y="1485314"/>
                  </a:cubicBezTo>
                  <a:close/>
                </a:path>
              </a:pathLst>
            </a:custGeom>
            <a:solidFill>
              <a:srgbClr val="d0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6640" rIns="476640" tIns="476640" bIns="47664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02"/>
            <p:cNvSpPr/>
            <p:nvPr/>
          </p:nvSpPr>
          <p:spPr>
            <a:xfrm>
              <a:off x="25770240" y="29081520"/>
              <a:ext cx="248112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Calibri"/>
                </a:rPr>
                <a:t>Analyze Data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3"/>
            <p:cNvSpPr/>
            <p:nvPr/>
          </p:nvSpPr>
          <p:spPr>
            <a:xfrm rot="20468400">
              <a:off x="22412160" y="31300560"/>
              <a:ext cx="2971800" cy="2971800"/>
            </a:xfrm>
            <a:custGeom>
              <a:avLst/>
              <a:gdLst/>
              <a:ahLst/>
              <a:rect l="l" t="t" r="r" b="b"/>
              <a:pathLst>
                <a:path w="2970627" h="2970627">
                  <a:moveTo>
                    <a:pt x="0" y="1485314"/>
                  </a:moveTo>
                  <a:cubicBezTo>
                    <a:pt x="0" y="664998"/>
                    <a:pt x="664998" y="0"/>
                    <a:pt x="1485314" y="0"/>
                  </a:cubicBezTo>
                  <a:cubicBezTo>
                    <a:pt x="2305630" y="0"/>
                    <a:pt x="2970628" y="664998"/>
                    <a:pt x="2970628" y="1485314"/>
                  </a:cubicBezTo>
                  <a:cubicBezTo>
                    <a:pt x="2970628" y="2305630"/>
                    <a:pt x="2305630" y="2970628"/>
                    <a:pt x="1485314" y="2970628"/>
                  </a:cubicBezTo>
                  <a:cubicBezTo>
                    <a:pt x="664998" y="2970628"/>
                    <a:pt x="0" y="2305630"/>
                    <a:pt x="0" y="1485314"/>
                  </a:cubicBezTo>
                  <a:close/>
                </a:path>
              </a:pathLst>
            </a:custGeom>
            <a:solidFill>
              <a:srgbClr val="d0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6640" rIns="476640" tIns="476640" bIns="47664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04"/>
            <p:cNvSpPr/>
            <p:nvPr/>
          </p:nvSpPr>
          <p:spPr>
            <a:xfrm>
              <a:off x="22379040" y="31977000"/>
              <a:ext cx="316548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Calibri"/>
                </a:rPr>
                <a:t>Adjust Method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5"/>
            <p:cNvSpPr/>
            <p:nvPr/>
          </p:nvSpPr>
          <p:spPr>
            <a:xfrm rot="20468400">
              <a:off x="17849520" y="30513240"/>
              <a:ext cx="2971800" cy="2971800"/>
            </a:xfrm>
            <a:custGeom>
              <a:avLst/>
              <a:gdLst/>
              <a:ahLst/>
              <a:rect l="l" t="t" r="r" b="b"/>
              <a:pathLst>
                <a:path w="2970627" h="2970627">
                  <a:moveTo>
                    <a:pt x="0" y="1485314"/>
                  </a:moveTo>
                  <a:cubicBezTo>
                    <a:pt x="0" y="664998"/>
                    <a:pt x="664998" y="0"/>
                    <a:pt x="1485314" y="0"/>
                  </a:cubicBezTo>
                  <a:cubicBezTo>
                    <a:pt x="2305630" y="0"/>
                    <a:pt x="2970628" y="664998"/>
                    <a:pt x="2970628" y="1485314"/>
                  </a:cubicBezTo>
                  <a:cubicBezTo>
                    <a:pt x="2970628" y="2305630"/>
                    <a:pt x="2305630" y="2970628"/>
                    <a:pt x="1485314" y="2970628"/>
                  </a:cubicBezTo>
                  <a:cubicBezTo>
                    <a:pt x="664998" y="2970628"/>
                    <a:pt x="0" y="2305630"/>
                    <a:pt x="0" y="1485314"/>
                  </a:cubicBezTo>
                  <a:close/>
                </a:path>
              </a:pathLst>
            </a:custGeom>
            <a:solidFill>
              <a:srgbClr val="d0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6640" rIns="476640" tIns="476640" bIns="476640" anchor="ctr">
              <a:noAutofit/>
            </a:bodyPr>
            <a:p>
              <a:endParaRPr b="0" lang="en-US" sz="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06"/>
            <p:cNvSpPr/>
            <p:nvPr/>
          </p:nvSpPr>
          <p:spPr>
            <a:xfrm>
              <a:off x="17757720" y="31291200"/>
              <a:ext cx="316548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Calibri"/>
                </a:rPr>
                <a:t>Find More Article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07"/>
          <p:cNvGrpSpPr/>
          <p:nvPr/>
        </p:nvGrpSpPr>
        <p:grpSpPr>
          <a:xfrm>
            <a:off x="34185600" y="15576480"/>
            <a:ext cx="14434920" cy="18513360"/>
            <a:chOff x="34185600" y="15576480"/>
            <a:chExt cx="14434920" cy="18513360"/>
          </a:xfrm>
        </p:grpSpPr>
        <p:sp>
          <p:nvSpPr>
            <p:cNvPr id="104" name="TextBox 108"/>
            <p:cNvSpPr/>
            <p:nvPr/>
          </p:nvSpPr>
          <p:spPr>
            <a:xfrm>
              <a:off x="34185600" y="15576480"/>
              <a:ext cx="5516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6000" spc="-1" strike="noStrike" u="sng">
                  <a:solidFill>
                    <a:srgbClr val="000000"/>
                  </a:solidFill>
                  <a:uFillTx/>
                  <a:latin typeface="Calibri"/>
                </a:rPr>
                <a:t>Traditional Role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09"/>
            <p:cNvSpPr/>
            <p:nvPr/>
          </p:nvSpPr>
          <p:spPr>
            <a:xfrm>
              <a:off x="36045720" y="16860600"/>
              <a:ext cx="63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with literature search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0"/>
            <p:cNvSpPr/>
            <p:nvPr/>
          </p:nvSpPr>
          <p:spPr>
            <a:xfrm>
              <a:off x="36052560" y="18281520"/>
              <a:ext cx="779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find journals for submission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1"/>
            <p:cNvSpPr/>
            <p:nvPr/>
          </p:nvSpPr>
          <p:spPr>
            <a:xfrm>
              <a:off x="36015480" y="19629360"/>
              <a:ext cx="11408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format bibliography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112"/>
            <p:cNvSpPr/>
            <p:nvPr/>
          </p:nvSpPr>
          <p:spPr>
            <a:xfrm>
              <a:off x="34275600" y="2577600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113"/>
            <p:cNvSpPr/>
            <p:nvPr/>
          </p:nvSpPr>
          <p:spPr>
            <a:xfrm>
              <a:off x="34275600" y="2729232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Hexagon 114"/>
            <p:cNvSpPr/>
            <p:nvPr/>
          </p:nvSpPr>
          <p:spPr>
            <a:xfrm>
              <a:off x="34275600" y="2417904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115"/>
            <p:cNvSpPr/>
            <p:nvPr/>
          </p:nvSpPr>
          <p:spPr>
            <a:xfrm>
              <a:off x="34275600" y="2873700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116"/>
            <p:cNvSpPr/>
            <p:nvPr/>
          </p:nvSpPr>
          <p:spPr>
            <a:xfrm>
              <a:off x="34275600" y="2258352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117"/>
            <p:cNvSpPr/>
            <p:nvPr/>
          </p:nvSpPr>
          <p:spPr>
            <a:xfrm>
              <a:off x="34275600" y="30036960"/>
              <a:ext cx="1608120" cy="1149120"/>
            </a:xfrm>
            <a:prstGeom prst="hexagon">
              <a:avLst>
                <a:gd name="adj" fmla="val 29135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118"/>
            <p:cNvSpPr/>
            <p:nvPr/>
          </p:nvSpPr>
          <p:spPr>
            <a:xfrm>
              <a:off x="34275600" y="31499280"/>
              <a:ext cx="1608120" cy="1145880"/>
            </a:xfrm>
            <a:prstGeom prst="hexagon">
              <a:avLst>
                <a:gd name="adj" fmla="val 29140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119"/>
            <p:cNvSpPr/>
            <p:nvPr/>
          </p:nvSpPr>
          <p:spPr>
            <a:xfrm>
              <a:off x="34275600" y="3294216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20"/>
            <p:cNvSpPr/>
            <p:nvPr/>
          </p:nvSpPr>
          <p:spPr>
            <a:xfrm>
              <a:off x="36041040" y="22335840"/>
              <a:ext cx="12119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00"/>
                </a:spcBef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with Data Management Plan and funder complianc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1"/>
            <p:cNvSpPr/>
            <p:nvPr/>
          </p:nvSpPr>
          <p:spPr>
            <a:xfrm>
              <a:off x="34247160" y="21064320"/>
              <a:ext cx="1107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4213080"/>
                  <a:tab algn="l" pos="8426520"/>
                </a:tabLst>
              </a:pPr>
              <a:r>
                <a:rPr b="1" lang="en-US" sz="6600" spc="-1" strike="noStrike" u="sng">
                  <a:solidFill>
                    <a:srgbClr val="000000"/>
                  </a:solidFill>
                  <a:uFillTx/>
                  <a:latin typeface="Calibri"/>
                </a:rPr>
                <a:t>Additional Informationist Role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22"/>
            <p:cNvSpPr/>
            <p:nvPr/>
          </p:nvSpPr>
          <p:spPr>
            <a:xfrm>
              <a:off x="36015480" y="33062760"/>
              <a:ext cx="663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Find data for reus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3"/>
            <p:cNvSpPr/>
            <p:nvPr/>
          </p:nvSpPr>
          <p:spPr>
            <a:xfrm>
              <a:off x="36091800" y="24099840"/>
              <a:ext cx="12490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set up and teach group citation management tool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4"/>
            <p:cNvSpPr/>
            <p:nvPr/>
          </p:nvSpPr>
          <p:spPr>
            <a:xfrm>
              <a:off x="35998200" y="25625160"/>
              <a:ext cx="12045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each students, staff, etc. about research data management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5"/>
            <p:cNvSpPr/>
            <p:nvPr/>
          </p:nvSpPr>
          <p:spPr>
            <a:xfrm>
              <a:off x="36053640" y="27424080"/>
              <a:ext cx="125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set up and maintain research data organization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6"/>
            <p:cNvSpPr/>
            <p:nvPr/>
          </p:nvSpPr>
          <p:spPr>
            <a:xfrm>
              <a:off x="36015480" y="28897200"/>
              <a:ext cx="1183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elp with data analysis and visualization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7"/>
            <p:cNvSpPr/>
            <p:nvPr/>
          </p:nvSpPr>
          <p:spPr>
            <a:xfrm>
              <a:off x="36117360" y="30143520"/>
              <a:ext cx="528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Find data repositories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28"/>
            <p:cNvSpPr/>
            <p:nvPr/>
          </p:nvSpPr>
          <p:spPr>
            <a:xfrm>
              <a:off x="36053640" y="31254840"/>
              <a:ext cx="12119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Make sure sharing is tied to ORCID and keep track of altmetrics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Hexagon 129"/>
            <p:cNvSpPr/>
            <p:nvPr/>
          </p:nvSpPr>
          <p:spPr>
            <a:xfrm>
              <a:off x="34275600" y="1963080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Hexagon 130"/>
            <p:cNvSpPr/>
            <p:nvPr/>
          </p:nvSpPr>
          <p:spPr>
            <a:xfrm>
              <a:off x="34275600" y="1821168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Hexagon 131"/>
            <p:cNvSpPr/>
            <p:nvPr/>
          </p:nvSpPr>
          <p:spPr>
            <a:xfrm>
              <a:off x="34275600" y="16828920"/>
              <a:ext cx="1608120" cy="1147680"/>
            </a:xfrm>
            <a:prstGeom prst="hexagon">
              <a:avLst>
                <a:gd name="adj" fmla="val 29133"/>
                <a:gd name="vf" fmla="val 11547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13080"/>
                  <a:tab algn="l" pos="842652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32"/>
          <p:cNvSpPr/>
          <p:nvPr/>
        </p:nvSpPr>
        <p:spPr>
          <a:xfrm>
            <a:off x="1639800" y="7904160"/>
            <a:ext cx="821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ist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ais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 of Medic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medical Engineer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 Data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9892800" y="7888320"/>
            <a:ext cx="854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P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med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 of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-campus facul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uate and Undergraduate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639800" y="12642840"/>
            <a:ext cx="17203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formationist Team hopes to show that this model, utilizing the skills of multiple librarians, is a viable way to support the increasing number of interdisciplinary and interprofessional research groups at the university who need help from embedded librarians. By working as a group, the Informationist Team is able to help in many new ro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9994400" y="7891560"/>
            <a:ext cx="130762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ture search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extended searching to multiple subject databases, strengthened PubMed searching, especially in areas of imaging and mathematical mode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ation mana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help with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Zot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library hel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finding protocols, books, articles,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interviewed team members, developed basic metadata form for research folders, working to add form to all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end lab meet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receive and answer questions as they co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ed on data visualiz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Journal Clu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5304480" y="7888320"/>
            <a:ext cx="111013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 1 Ye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=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of 7 had worked with Informationists, found what they needed, and saved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ing someone who knows database searching helped save me tim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nd Sources I may not have otherwis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from Pre-Surve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=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d from school server to cloud for storage of data, documents,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gnized data management as important to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6" descr="by-sa"/>
          <p:cNvPicPr/>
          <p:nvPr/>
        </p:nvPicPr>
        <p:blipFill>
          <a:blip r:embed="rId1"/>
          <a:stretch/>
        </p:blipFill>
        <p:spPr>
          <a:xfrm>
            <a:off x="992160" y="33248520"/>
            <a:ext cx="28209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8:15:32Z</dcterms:created>
  <dc:creator>Andrew Bain</dc:creator>
  <dc:description/>
  <dc:language>en-US</dc:language>
  <cp:lastModifiedBy>Margaret Henderson</cp:lastModifiedBy>
  <dcterms:modified xsi:type="dcterms:W3CDTF">2015-04-03T13:04:56Z</dcterms:modified>
  <cp:revision>17</cp:revision>
  <dc:subject/>
  <dc:title>Slide 1</dc:title>
</cp:coreProperties>
</file>